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69D-2C63-45AA-91EA-45D6390F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AF1-432E-466A-A9AF-0F8C24A4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B3E-5FC1-413F-B75E-48FE8235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3E9-A315-44DE-83D2-9BD9E1B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D721-4CBA-46F4-B69C-567750BC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DE7C-17B3-4C55-89EE-B5F366F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CEA-2EA7-4135-93D0-94CDA42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6897-04C0-47A4-90ED-A111AA6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63F-3BBE-45D3-98A4-3E5215E2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94EE-6A28-496F-8DFD-94528EA1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28C5-8146-49C6-AE49-0AB87A3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5C5-95DC-4F6B-B53A-D3AF74C7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1532-D7E0-4D84-9826-DF8C091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E0E9-4AD1-4EEF-9490-A95067D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8902-3156-4FF5-A3B8-FDA83D6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56D-D4FD-4E3C-859C-4193011D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B515-891E-4A7B-B297-098E9B40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77B-5773-4683-8053-A314132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536-8146-4A36-B442-B4A5C2C8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7C7-E817-4659-ACCA-F4166D1A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2B1-5F78-4E29-A8C1-6947BCB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0D7-FC11-4ED2-9203-1C2F7068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697-007E-4C6B-AD79-909E2E47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22C-A76D-494C-BC41-9F2735E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6BCA-B73F-485D-B3AF-7186D6CEC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605-7DC2-4A9F-A1F8-4593783D0C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6875640" cy="194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АЦІОНАЛЬНИЙ   УНІВЕРСИТЕТ БІОРЕСУРСІВ    І ПРИРОДОКОРИСТУВАННЯ     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c000"/>
                </a:solidFill>
                <a:latin typeface="Arial"/>
              </a:rPr>
              <a:t>Підвищення кваліфікації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c000"/>
                </a:solidFill>
                <a:latin typeface="Arial"/>
              </a:rPr>
              <a:t>з питань управління фінанс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ГРИЩЕНКО ІРИНА МИКОЛАЇ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доктор наук з державного управлі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Times New Roman"/>
              </a:rPr>
              <a:t>02 грудня – 14 грудня 2019 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0" y="333360"/>
            <a:ext cx="1503720" cy="1212120"/>
            <a:chOff x="0" y="333360"/>
            <a:chExt cx="1503720" cy="1212120"/>
          </a:xfrm>
        </p:grpSpPr>
        <p:grpSp>
          <p:nvGrpSpPr>
            <p:cNvPr id="165" name="Group 10"/>
            <p:cNvGrpSpPr/>
            <p:nvPr/>
          </p:nvGrpSpPr>
          <p:grpSpPr>
            <a:xfrm>
              <a:off x="0" y="333360"/>
              <a:ext cx="1503720" cy="1130040"/>
              <a:chOff x="0" y="333360"/>
              <a:chExt cx="1503720" cy="1130040"/>
            </a:xfrm>
          </p:grpSpPr>
          <p:pic>
            <p:nvPicPr>
              <p:cNvPr id="166" name="Picture 11" descr="ukr"/>
              <p:cNvPicPr/>
              <p:nvPr/>
            </p:nvPicPr>
            <p:blipFill>
              <a:blip r:embed="rId1"/>
              <a:stretch/>
            </p:blipFill>
            <p:spPr>
              <a:xfrm>
                <a:off x="0" y="333360"/>
                <a:ext cx="801720" cy="11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2" descr="ukr"/>
              <p:cNvPicPr/>
              <p:nvPr/>
            </p:nvPicPr>
            <p:blipFill>
              <a:blip r:embed="rId2"/>
              <a:stretch/>
            </p:blipFill>
            <p:spPr>
              <a:xfrm>
                <a:off x="702000" y="333360"/>
                <a:ext cx="801720" cy="113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8" name="Picture 13" descr="trezub"/>
            <p:cNvPicPr/>
            <p:nvPr/>
          </p:nvPicPr>
          <p:blipFill>
            <a:blip r:embed="rId3"/>
            <a:stretch/>
          </p:blipFill>
          <p:spPr>
            <a:xfrm>
              <a:off x="239400" y="333360"/>
              <a:ext cx="963360" cy="1212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</p:pic>
      </p:grpSp>
      <p:pic>
        <p:nvPicPr>
          <p:cNvPr id="169" name="Рисунок 8" descr="NUBIP_LOGO_NEW_2018"/>
          <p:cNvPicPr/>
          <p:nvPr/>
        </p:nvPicPr>
        <p:blipFill>
          <a:blip r:embed="rId4"/>
          <a:stretch/>
        </p:blipFill>
        <p:spPr>
          <a:xfrm>
            <a:off x="0" y="0"/>
            <a:ext cx="2987640" cy="28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6:25:37Z</dcterms:created>
  <dc:creator>Ена</dc:creator>
  <dc:description/>
  <dc:language>en-US</dc:language>
  <cp:lastModifiedBy>HP</cp:lastModifiedBy>
  <dcterms:modified xsi:type="dcterms:W3CDTF">2019-12-02T18:52:15Z</dcterms:modified>
  <cp:revision>512</cp:revision>
  <dc:subject/>
  <dc:title>Слайд 1</dc:title>
</cp:coreProperties>
</file>