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CD5-1B9D-47A1-AE7D-839334AF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0D4D-3459-4F54-947F-862F6490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A98-2D1C-4222-8DC9-CB5E3AA5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A74B-14B8-4B32-811B-193B4583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F6FF-44A0-4C9C-A8BC-0EB10721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F2C3-F91F-4261-BCA3-91B4EB02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6C4F-7B07-4F4B-BA9D-C27DA608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AF23-E269-4F5C-B0B4-E6F5774F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997D-2BA1-4DB9-863A-2D5C6445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CAC7-B969-4766-AC75-B55EED7B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257E-3864-4D4C-AD0E-13CB32E7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8537-C279-4425-97F1-7EEB39D0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FD24-F180-4927-8EE0-1B0CDDE0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1084-3871-4D14-91D3-279F9AD7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91F8-8C12-44B9-ABEE-64D83F53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D4DA-69A1-4206-B1ED-F630DC42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7403-CFC0-4598-A741-4E3846E9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16D9-C3AA-4C36-A4D9-BE0BA2D4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15F-E70E-4175-B7C9-8389D2DF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A7C-5EE8-41BD-9FA7-5E9B0333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1D7E-E616-406C-B1FA-50AA90B1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FEAC-894B-4F67-AF76-0AB7E6A1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9FDF-8A06-47C9-B624-7DF74A76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F30-0018-49A1-AFAD-AF0C6069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F5F0-7932-4330-BE5E-CB22F06D63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3FF1-3573-472E-898C-D1B5321AA9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68000" y="333360"/>
            <a:ext cx="6875640" cy="1943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НАЦІОНАЛЬНИЙ   УНІВЕРСИТЕТ БІОРЕСУРСІВ    І ПРИРОДОКОРИСТУВАННЯ      УКРАЇ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c000"/>
                </a:solidFill>
                <a:latin typeface="Arial"/>
              </a:rPr>
              <a:t>Підвищення кваліфікації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c000"/>
                </a:solidFill>
                <a:latin typeface="Arial"/>
              </a:rPr>
              <a:t>з питань управління фінансам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ГРИЩЕНКО ІРИНА МИКОЛАЇВН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доктор наук з державного управлі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66"/>
                </a:solidFill>
                <a:latin typeface="Times New Roman"/>
              </a:rPr>
              <a:t>02 грудня – 14 грудня 2019 ро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Group 9"/>
          <p:cNvGrpSpPr/>
          <p:nvPr/>
        </p:nvGrpSpPr>
        <p:grpSpPr>
          <a:xfrm>
            <a:off x="0" y="333360"/>
            <a:ext cx="1503720" cy="1212120"/>
            <a:chOff x="0" y="333360"/>
            <a:chExt cx="1503720" cy="1212120"/>
          </a:xfrm>
        </p:grpSpPr>
        <p:grpSp>
          <p:nvGrpSpPr>
            <p:cNvPr id="165" name="Group 10"/>
            <p:cNvGrpSpPr/>
            <p:nvPr/>
          </p:nvGrpSpPr>
          <p:grpSpPr>
            <a:xfrm>
              <a:off x="0" y="333360"/>
              <a:ext cx="1503720" cy="1130040"/>
              <a:chOff x="0" y="333360"/>
              <a:chExt cx="1503720" cy="1130040"/>
            </a:xfrm>
          </p:grpSpPr>
          <p:pic>
            <p:nvPicPr>
              <p:cNvPr id="166" name="Picture 11" descr="ukr"/>
              <p:cNvPicPr/>
              <p:nvPr/>
            </p:nvPicPr>
            <p:blipFill>
              <a:blip r:embed="rId1"/>
              <a:stretch/>
            </p:blipFill>
            <p:spPr>
              <a:xfrm>
                <a:off x="0" y="333360"/>
                <a:ext cx="801720" cy="113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Picture 12" descr="ukr"/>
              <p:cNvPicPr/>
              <p:nvPr/>
            </p:nvPicPr>
            <p:blipFill>
              <a:blip r:embed="rId2"/>
              <a:stretch/>
            </p:blipFill>
            <p:spPr>
              <a:xfrm>
                <a:off x="702000" y="333360"/>
                <a:ext cx="801720" cy="1130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8" name="Picture 13" descr="trezub"/>
            <p:cNvPicPr/>
            <p:nvPr/>
          </p:nvPicPr>
          <p:blipFill>
            <a:blip r:embed="rId3"/>
            <a:stretch/>
          </p:blipFill>
          <p:spPr>
            <a:xfrm>
              <a:off x="239400" y="333360"/>
              <a:ext cx="963360" cy="12121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</p:pic>
      </p:grpSp>
      <p:pic>
        <p:nvPicPr>
          <p:cNvPr id="169" name="Рисунок 8" descr="NUBIP_LOGO_NEW_2018"/>
          <p:cNvPicPr/>
          <p:nvPr/>
        </p:nvPicPr>
        <p:blipFill>
          <a:blip r:embed="rId4"/>
          <a:stretch/>
        </p:blipFill>
        <p:spPr>
          <a:xfrm>
            <a:off x="0" y="0"/>
            <a:ext cx="2987640" cy="2852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06:25:37Z</dcterms:created>
  <dc:creator>Ена</dc:creator>
  <dc:description/>
  <dc:language>en-US</dc:language>
  <cp:lastModifiedBy>HP</cp:lastModifiedBy>
  <dcterms:modified xsi:type="dcterms:W3CDTF">2019-12-02T18:52:15Z</dcterms:modified>
  <cp:revision>512</cp:revision>
  <dc:subject/>
  <dc:title>Слайд 1</dc:title>
</cp:coreProperties>
</file>