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95B-0D62-4E0C-8A6C-7B84CD4D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1A2-FF17-4669-B47C-14F49565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0A3-667D-4EE8-9C3D-7F175ED6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C13-4BA5-4D2B-86E6-0D73F30E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76E8-CC5F-4AFE-80EE-DD32A6E0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4326-2E49-4370-963C-180832DB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9466-DADA-4ADC-B0D9-389B6B5E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C421-9AD7-46C1-A4B5-7CD7AD0B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1B9F-DBB8-4550-9465-BC53C86F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2174-6318-4CD9-BE09-77CE7415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0830-BD1D-4E55-BCB7-900E4C54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10C-E641-4B85-8EF1-CDC94DA2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02FD-3ADC-4824-8686-63029040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EF4F-3F88-4FD3-AE69-D37221E0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6EBE-9DF8-47DD-8C1E-9A1D5BE3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767D-2217-47CA-8665-E4DA814C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2C93-27B6-4DED-A3B0-5FBC6666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0F9-BD2D-400B-AB97-763D4EB9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D9B-BD3D-4096-BF15-9577338F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700-1508-4094-8762-240A007C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577-3F1C-43CB-A0E4-C3E49661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FE8-3F8A-460B-B28B-F558FA5E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5CB-8845-4602-A452-5AB18D5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96A-EFDE-406C-BB70-2EC45C55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2ba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dd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a1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dd4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ba1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ba1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01A9-3914-48FC-8370-DDBFCF9D62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2ba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6dd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C823-C38F-4F70-8826-D69CDE4E60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zavtra.in.ua/" TargetMode="External"/><Relationship Id="rId3" Type="http://schemas.openxmlformats.org/officeDocument/2006/relationships/hyperlink" Target="http://www.zavtra.in.ua/" TargetMode="External"/><Relationship Id="rId4" Type="http://schemas.openxmlformats.org/officeDocument/2006/relationships/hyperlink" Target="http://www.zavtra.in.ua/" TargetMode="External"/><Relationship Id="rId5" Type="http://schemas.openxmlformats.org/officeDocument/2006/relationships/hyperlink" Target="http://www.zavtra.in.ua/" TargetMode="External"/><Relationship Id="rId6" Type="http://schemas.openxmlformats.org/officeDocument/2006/relationships/hyperlink" Target="http://www.zavtra.in.ua/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"ЗАВТРА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A</a:t>
            </a: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це перша в Україні загальнонаціональна програма підтримки талановитої молоді, що здійснюється за рахунок приватних коштів та є частиною комплексу проек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Фонду Віктора Пінч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 галузі освіти та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784836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овну інформаці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о умови участі у конкурсі дивись на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 u="sng">
                <a:solidFill>
                  <a:srgbClr val="2e4921"/>
                </a:solidFill>
                <a:uFillTx/>
                <a:latin typeface="Arial"/>
                <a:hlinkClick r:id="rId2"/>
              </a:rPr>
              <a:t>www.zavtr</a:t>
            </a:r>
            <a:r>
              <a:rPr b="0" lang="en-GB" sz="4400" spc="-1" strike="noStrike" u="sng">
                <a:solidFill>
                  <a:srgbClr val="2e4921"/>
                </a:solidFill>
                <a:uFillTx/>
                <a:latin typeface="Arial"/>
                <a:hlinkClick r:id="rId3"/>
              </a:rPr>
              <a:t>a.in</a:t>
            </a:r>
            <a:r>
              <a:rPr b="0" lang="uk-UA" sz="4400" spc="-1" strike="noStrike" u="sng">
                <a:solidFill>
                  <a:srgbClr val="2e4921"/>
                </a:solidFill>
                <a:uFillTx/>
                <a:latin typeface="Arial"/>
                <a:hlinkClick r:id="rId4"/>
              </a:rPr>
              <a:t>.</a:t>
            </a:r>
            <a:r>
              <a:rPr b="0" lang="en-GB" sz="4400" spc="-1" strike="noStrike" u="sng">
                <a:solidFill>
                  <a:srgbClr val="2e4921"/>
                </a:solidFill>
                <a:uFillTx/>
                <a:latin typeface="Arial"/>
                <a:hlinkClick r:id="rId5"/>
              </a:rPr>
              <a:t>u</a:t>
            </a:r>
            <a:r>
              <a:rPr b="0" lang="uk-UA" sz="4400" spc="-1" strike="noStrike" u="sng">
                <a:solidFill>
                  <a:srgbClr val="2e4921"/>
                </a:solidFill>
                <a:uFillTx/>
                <a:latin typeface="Arial"/>
                <a:hlinkClick r:id="rId6"/>
              </a:rPr>
              <a:t>a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2627280" y="3429000"/>
            <a:ext cx="424836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854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Контакти Прогр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konkurs@zavtra.in.ua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info@zavtra.in.ua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2449440" cy="1768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21360000">
            <a:off x="4932360" y="1052280"/>
            <a:ext cx="1244520" cy="194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 rot="120000">
            <a:off x="3563640" y="4700520"/>
            <a:ext cx="2952720" cy="2157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7093080" y="2781360"/>
            <a:ext cx="179064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 rot="21360000">
            <a:off x="2484000" y="4741920"/>
            <a:ext cx="1490760" cy="2116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 rot="21300000">
            <a:off x="6443280" y="4797360"/>
            <a:ext cx="2627280" cy="1797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 rot="21480000">
            <a:off x="0" y="1125360"/>
            <a:ext cx="2519280" cy="174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0" y="2492280"/>
            <a:ext cx="2195640" cy="2136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 rot="240000">
            <a:off x="107640" y="4575240"/>
            <a:ext cx="2376360" cy="2282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2"/>
          <a:stretch/>
        </p:blipFill>
        <p:spPr>
          <a:xfrm rot="120000">
            <a:off x="6227640" y="1052640"/>
            <a:ext cx="28432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06 році конкурс 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оходив 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 – партнерах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 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4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першого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1 СТИПЕНДІАТА-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07 році конкур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проходив 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- партнерах 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   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другого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16 СТИПЕНДІАТІВ-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8/9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навчальному році конкур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проходив 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54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- партнерах 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третього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18 СТИПЕНДІАТІВ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997360"/>
            <a:ext cx="45352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9/10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навчальному році конкур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проходив в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- партнерах 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18 СТИПЕНДІАТІВ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/1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навчальному році конкур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проходив в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- партнерах 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20 СТИПЕНДІАТІВ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/12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навчальному році конкурс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проходив в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ВНЗ- партнерах Програми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серед студентів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-6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урсів денної форми навчання. За результатам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конкурсу було визначено </a:t>
            </a: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320 СТИПЕНДІАТІВ-20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60720" cy="322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Що отримують переможці конкурс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5694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фінансову підтримку у вигляді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щомісячної стипендії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00 гривень)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продовж одного ро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2) 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можливості підтримки науково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діяльності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, участі в конференція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семіна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а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типендіатів в спіль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ціальних ініціатив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проектах Фонду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S, PinchukArtCentre,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ублічні лекції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4) підтримка у працевлаштуванні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стипендіа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32360" y="2708280"/>
            <a:ext cx="3672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Хто може стати учасником конкурсу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785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удент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чно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форми навч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 - 6 курсів ВН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Украї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V рівня акредит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удент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чно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фор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вчання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 - 6 курс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НЗ – партнер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г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643280" y="2997360"/>
            <a:ext cx="4392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Verdana"/>
              </a:rPr>
              <a:t>Як взяти участь у конкурсі?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8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 1 до 25 жовтня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оку зібрати та подати на конкурс необхідний пакет документ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явка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участь у Конкурсі – 20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форма завантажується з сайт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Самостійна конкурсна робота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– вимоги до оформлення роботи дивись на сайті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Есе (нарис)  соціального характеру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тему: „Завтра: Світ, Україна, Я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ідгук наукового керівника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або відповідної кафедри, чи іншого авторитетного науковця, що працює з відповідного наукового напряму) на конкурсну робо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пії паспорту, ідентифікаційного коду  та студентського квитка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вірені підписом пошукача (все у 2-х примірниках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пії документів, які підтверджують наукову діяльність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явність публікацій та/або виступів на наукових конференціях, та/або перемог та призових місць на наукових конкурсах (олімпіадах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пії документів, які підтверджують соціальну діяльність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явні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пломів, грамот, подяк, офіційних/рекомендаційних листів, фото, що засвідчують участь у соціальних проектах, волонтерських акціях тощо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тографія конкурсанта в електронному вигля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dd46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Електрона версія всіх документ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бов’язково заповнити форму реєстрації у Конкурсі –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, що бу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міщена на сайті  Програми www. zavtra.in.ua  з 0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овтня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о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785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Як проходитиме конкурс?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ийом документів з 1 до 25 жовтня 2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ок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НКУРС проходить в три етапи (жовтень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– травень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2ba1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</a:rPr>
              <a:t>Етап 1: 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Первісний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ідбір студентів на підставі результатів навчання та студентської наукової роботи, здійснюється силами ВНЗ – учасників Прог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2ba1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</a:rPr>
              <a:t>Етап 2: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 Конкурс наукових студентських робіт, що оцінюються незалежними фаховими експер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2ba1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</a:rPr>
              <a:t>Етап 3: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 1-денні очні змагальні процедури для оцінювання особистісних якостей студентів із залученням відповідних фахівців.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 рамках цього туру також відбувається оцінювання  есе (нарису) соціального характ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голошення результатів конкурс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інець квітня - початок травня 2013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64000" y="4365720"/>
            <a:ext cx="30243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ерелік наукових напрямів,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 якими подаються конкурсні роботи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(повний перелік дивіться на сайті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Математика і механі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Інформатика і обчислювальна техні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зика і астроном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Науки про Земл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Інженерія та енерге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Електронна техніка та прил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Транспор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Матеріалознавство, гірництво та металург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Хім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Медиц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Біологія та біотехнолог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Сільськогосподарські на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Архітектура та будівниц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сихологія та соціолог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едагогіка і осві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Економіка та менеджм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Істор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лософія, культура та мистец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лологія та журналі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олітологія й міжнародні відноси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раво й державне управління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Військові науки та національна безпека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27640" y="2852640"/>
            <a:ext cx="4105080" cy="2730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моги до конкурсних робі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боти, що подаються на конкурс повинні мати характер самостійних досліджень, присвячених актуальним проблемам у різних галузях науки, суспільно-політичного життя та економі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бота повинна складатися зі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ступної частин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новної частин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сновк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бота повинна супроводжуватися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писком використаних джерел та літератур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 25 наз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цінювання конкурсних робіт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Кожну конкурсну роботу незалежно оцінюють за 20 (двадцяти) - бальною шкалою троє незалежних фахових експертів, Загальна оцінка становить суму оцінок трьох експертів, максимально – 60 (шістдесят) балів. Роботи передаються експертам на перевірку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ез зазначення прізвища автора роботи, курсу та ВНЗ,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 якому навчається конкурсант. Імена експертів, що проводять оцінювання робіт, не розголошую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4292640"/>
            <a:ext cx="56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раничний обсяг робот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8 сторіно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або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6 000 знаків з пробілам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4 шрифтом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бажано -  Times New Roman) у редакторі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”. Вказаний обсяг включає: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рафічні зображенн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таблиці, графіки, малюнки;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осилання;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ерелік джерел та літератур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тощ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ова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українська, російська, англійська  (на вибір конкурсанта), мова роботи не впливає на її оцінюва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2376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дання документів можли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одним із способів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езпосередньо до адміністраці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грами в електронному вигляді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форму реєстрації на сайті конкурсу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zavtra.in.ua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 умови неучасті у вузівському відбор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 уповноваженого представника свого ВНЗ (документи подаються на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диску та через форму на сайт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zavtra.in.u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 згідно відбору ВН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57960" y="6453360"/>
            <a:ext cx="3686040" cy="509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8000" y="1341360"/>
            <a:ext cx="26636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3:52:28Z</dcterms:created>
  <dc:creator>Гуцал</dc:creator>
  <dc:description/>
  <dc:language>en-US</dc:language>
  <cp:lastModifiedBy>EVMischenko</cp:lastModifiedBy>
  <dcterms:modified xsi:type="dcterms:W3CDTF">2012-09-24T10:14:13Z</dcterms:modified>
  <cp:revision>64</cp:revision>
  <dc:subject/>
  <dc:title>Фонд Віктора Пінчука </dc:title>
</cp:coreProperties>
</file>